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B16-11C1-4240-98A2-1F79863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2D8-089A-44FD-8C75-A19473F0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08F-4887-4464-8C59-53B8042F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A4F-17FB-4F9B-8EE3-3E238543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5915-E04F-4843-8F7C-43320D33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5AA58-1378-4792-B9B5-30C03D0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D58CC-EB65-4C77-819D-0E708850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1BB9B-85E5-420E-B9E8-71A3C27B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6B93D-EEA8-4E31-8A86-1204622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2BE11-10FA-4FE6-A4D7-B0B8B39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8FF8-0530-4FAA-9214-29E9BB7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F5B-9F94-49F3-B10B-9AD790B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835E6-4BF1-43E9-91C8-77264C1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0EE25-163E-47D3-9853-5147873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24BC3-B307-4C25-9776-25D74984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1A36A-7DB9-4F74-946B-6CDED5B5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073C3-2157-4B19-9D97-48AF417F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ECF-7B55-4F68-91D5-4CC15A0D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573-B619-4B9B-A6A7-4242621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697-740E-43A6-9FE8-F2C3B31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7B-F9C8-4350-A26B-70A246DC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F65-F00A-4D52-9C95-C096A9A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B43-A400-423C-923F-8EBFFB5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6DA-9DEC-4B86-8605-2C22237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D73F-51F2-4646-9531-1ADE6BF2E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F4B-9AAE-4D17-AB92-C039211C37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" Target="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886200" cy="157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2280" y="3048120"/>
            <a:ext cx="4038840" cy="207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5181480"/>
            <a:ext cx="3886200" cy="1217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66880" y="68580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4572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klahoma Catf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2356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lathead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23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annel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1860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lue Catf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590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600200"/>
            <a:ext cx="2590920" cy="1042920"/>
          </a:xfrm>
          <a:custGeom>
            <a:avLst/>
            <a:gdLst>
              <a:gd name="textAreaLeft" fmla="*/ 67320 w 2590920"/>
              <a:gd name="textAreaRight" fmla="*/ 2523600 w 2590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3650" h="21600">
                <a:moveTo>
                  <a:pt x="0" y="0"/>
                </a:moveTo>
                <a:lnTo>
                  <a:pt x="53650" y="0"/>
                </a:lnTo>
                <a:lnTo>
                  <a:pt x="53650" y="21600"/>
                </a:lnTo>
                <a:lnTo>
                  <a:pt x="0" y="21600"/>
                </a:lnTo>
                <a:close/>
              </a:path>
              <a:path fill="lightenLess" w="53650" h="21600">
                <a:moveTo>
                  <a:pt x="0" y="0"/>
                </a:moveTo>
                <a:lnTo>
                  <a:pt x="53650" y="0"/>
                </a:lnTo>
                <a:lnTo>
                  <a:pt x="52250" y="1400"/>
                </a:lnTo>
                <a:lnTo>
                  <a:pt x="1400" y="1400"/>
                </a:lnTo>
                <a:close/>
              </a:path>
              <a:path fill="darken" w="53650" h="21600">
                <a:moveTo>
                  <a:pt x="53650" y="0"/>
                </a:moveTo>
                <a:lnTo>
                  <a:pt x="53650" y="21600"/>
                </a:lnTo>
                <a:lnTo>
                  <a:pt x="52250" y="20200"/>
                </a:lnTo>
                <a:lnTo>
                  <a:pt x="52250" y="1400"/>
                </a:lnTo>
                <a:close/>
              </a:path>
              <a:path fill="darkenLess" w="53650" h="21600">
                <a:moveTo>
                  <a:pt x="53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50" y="20200"/>
                </a:lnTo>
                <a:close/>
              </a:path>
              <a:path fill="lighten" w="53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3581280"/>
            <a:ext cx="3581280" cy="1043280"/>
          </a:xfrm>
          <a:custGeom>
            <a:avLst/>
            <a:gdLst>
              <a:gd name="textAreaLeft" fmla="*/ 67320 w 3581280"/>
              <a:gd name="textAreaRight" fmla="*/ 3513960 w 3581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74128" h="21600">
                <a:moveTo>
                  <a:pt x="0" y="0"/>
                </a:moveTo>
                <a:lnTo>
                  <a:pt x="74128" y="0"/>
                </a:lnTo>
                <a:lnTo>
                  <a:pt x="74128" y="21600"/>
                </a:lnTo>
                <a:lnTo>
                  <a:pt x="0" y="21600"/>
                </a:lnTo>
                <a:close/>
              </a:path>
              <a:path fill="lightenLess" w="74128" h="21600">
                <a:moveTo>
                  <a:pt x="0" y="0"/>
                </a:moveTo>
                <a:lnTo>
                  <a:pt x="74128" y="0"/>
                </a:lnTo>
                <a:lnTo>
                  <a:pt x="72729" y="1400"/>
                </a:lnTo>
                <a:lnTo>
                  <a:pt x="1400" y="1400"/>
                </a:lnTo>
                <a:close/>
              </a:path>
              <a:path fill="darken" w="74128" h="21600">
                <a:moveTo>
                  <a:pt x="74128" y="0"/>
                </a:moveTo>
                <a:lnTo>
                  <a:pt x="74128" y="21600"/>
                </a:lnTo>
                <a:lnTo>
                  <a:pt x="72729" y="20200"/>
                </a:lnTo>
                <a:lnTo>
                  <a:pt x="72729" y="1400"/>
                </a:lnTo>
                <a:close/>
              </a:path>
              <a:path fill="darkenLess" w="74128" h="21600">
                <a:moveTo>
                  <a:pt x="74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29" y="20200"/>
                </a:lnTo>
                <a:close/>
              </a:path>
              <a:path fill="lighten" w="74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5867280" y="3809880"/>
            <a:ext cx="3276720" cy="1043280"/>
          </a:xfrm>
          <a:custGeom>
            <a:avLst/>
            <a:gdLst>
              <a:gd name="textAreaLeft" fmla="*/ 67320 w 3276720"/>
              <a:gd name="textAreaRight" fmla="*/ 3209400 w 32767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7825" h="21600">
                <a:moveTo>
                  <a:pt x="0" y="0"/>
                </a:moveTo>
                <a:lnTo>
                  <a:pt x="67825" y="0"/>
                </a:lnTo>
                <a:lnTo>
                  <a:pt x="67825" y="21600"/>
                </a:lnTo>
                <a:lnTo>
                  <a:pt x="0" y="21600"/>
                </a:lnTo>
                <a:close/>
              </a:path>
              <a:path fill="lightenLess" w="67825" h="21600">
                <a:moveTo>
                  <a:pt x="0" y="0"/>
                </a:moveTo>
                <a:lnTo>
                  <a:pt x="67825" y="0"/>
                </a:lnTo>
                <a:lnTo>
                  <a:pt x="66425" y="1400"/>
                </a:lnTo>
                <a:lnTo>
                  <a:pt x="1400" y="1400"/>
                </a:lnTo>
                <a:close/>
              </a:path>
              <a:path fill="darken" w="67825" h="21600">
                <a:moveTo>
                  <a:pt x="67825" y="0"/>
                </a:moveTo>
                <a:lnTo>
                  <a:pt x="67825" y="21600"/>
                </a:lnTo>
                <a:lnTo>
                  <a:pt x="66425" y="20200"/>
                </a:lnTo>
                <a:lnTo>
                  <a:pt x="66425" y="1400"/>
                </a:lnTo>
                <a:close/>
              </a:path>
              <a:path fill="darkenLess" w="67825" h="21600">
                <a:moveTo>
                  <a:pt x="67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25" y="20200"/>
                </a:lnTo>
                <a:close/>
              </a:path>
              <a:path fill="lighten" w="67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6781680" y="1752480"/>
            <a:ext cx="1752840" cy="1308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60520" y="1295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9" action="ppaction://hlinksldjump"/>
          </p:cNvPr>
          <p:cNvSpPr/>
          <p:nvPr/>
        </p:nvSpPr>
        <p:spPr>
          <a:xfrm>
            <a:off x="6781680" y="1752480"/>
            <a:ext cx="1752840" cy="1295640"/>
          </a:xfrm>
          <a:custGeom>
            <a:avLst/>
            <a:gdLst>
              <a:gd name="textAreaLeft" fmla="*/ 83880 w 1752840"/>
              <a:gd name="textAreaRight" fmla="*/ 1668960 w 175284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9220" h="21600">
                <a:moveTo>
                  <a:pt x="0" y="0"/>
                </a:moveTo>
                <a:lnTo>
                  <a:pt x="29220" y="0"/>
                </a:lnTo>
                <a:lnTo>
                  <a:pt x="29220" y="21600"/>
                </a:lnTo>
                <a:lnTo>
                  <a:pt x="0" y="21600"/>
                </a:lnTo>
                <a:close/>
              </a:path>
              <a:path fill="lightenLess" w="29220" h="21600">
                <a:moveTo>
                  <a:pt x="0" y="0"/>
                </a:moveTo>
                <a:lnTo>
                  <a:pt x="29220" y="0"/>
                </a:lnTo>
                <a:lnTo>
                  <a:pt x="27820" y="1400"/>
                </a:lnTo>
                <a:lnTo>
                  <a:pt x="1400" y="1400"/>
                </a:lnTo>
                <a:close/>
              </a:path>
              <a:path fill="darken" w="29220" h="21600">
                <a:moveTo>
                  <a:pt x="29220" y="0"/>
                </a:moveTo>
                <a:lnTo>
                  <a:pt x="29220" y="21600"/>
                </a:lnTo>
                <a:lnTo>
                  <a:pt x="27820" y="20200"/>
                </a:lnTo>
                <a:lnTo>
                  <a:pt x="27820" y="1400"/>
                </a:lnTo>
                <a:close/>
              </a:path>
              <a:path fill="darkenLess" w="29220" h="21600">
                <a:moveTo>
                  <a:pt x="29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0" y="20200"/>
                </a:lnTo>
                <a:close/>
              </a:path>
              <a:path fill="lighten" w="29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19560" y="331308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opular B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6934320" y="365760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11" action="ppaction://hlinksldjump"/>
          </p:cNvPr>
          <p:cNvSpPr/>
          <p:nvPr/>
        </p:nvSpPr>
        <p:spPr>
          <a:xfrm>
            <a:off x="6934320" y="3886200"/>
            <a:ext cx="1523880" cy="228600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2286000"/>
              <a:gd name="textAreaBottom" fmla="*/ 2187360 h 22860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5240" y="10666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lick Picture for more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4495680" y="3352680"/>
            <a:ext cx="1524240" cy="1424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95680" y="2895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ov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100760" y="5493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9440" y="1752480"/>
            <a:ext cx="741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stream, river, and pond f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urchased or dug up along stream and 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difficult to keep on h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27228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10800"/>
                </a:moveTo>
                <a:lnTo>
                  <a:pt x="19213" y="3794"/>
                </a:lnTo>
                <a:lnTo>
                  <a:pt x="1921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Vide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3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06400" y="5335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1712880"/>
            <a:ext cx="567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ish can exceed 10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 areas with sand, gravel or rock bot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fish, mussels. Snails. Insects and cray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ing occurs in late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hollow logs, underwater ledges, and riv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64008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11392"/>
                </a:moveTo>
                <a:lnTo>
                  <a:pt x="17806" y="4385"/>
                </a:lnTo>
                <a:lnTo>
                  <a:pt x="17806" y="183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098960" y="49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800" y="38088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nel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160" y="1182600"/>
            <a:ext cx="76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streams, ponds, an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fish, mussels, insects, and cray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 in late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hollow logs, underwater ledges, and mud h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the best tasting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8480" y="30492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head Cat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6240" y="1146240"/>
            <a:ext cx="64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pale yellow to near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y is cream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 is broad and flatt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in ponds and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deepe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 in brush, rocks, and submerged 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on crayfish, snails, insects, and mu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wn in May to early J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6172200"/>
            <a:ext cx="738360" cy="685800"/>
          </a:xfrm>
          <a:custGeom>
            <a:avLst/>
            <a:gdLst>
              <a:gd name="textAreaLeft" fmla="*/ 44280 w 738360"/>
              <a:gd name="textAreaRight" fmla="*/ 694080 w 738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1855" y="1400"/>
                </a:lnTo>
                <a:lnTo>
                  <a:pt x="1400" y="140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1855" y="20200"/>
                </a:lnTo>
                <a:lnTo>
                  <a:pt x="21855" y="140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5" y="202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5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89480" y="39672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6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4112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.45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8320" y="270684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nel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.39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191120"/>
            <a:ext cx="18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thead Cat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.49 L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8120" y="38088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r B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13716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2438640" cy="174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8280" y="3733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ver “stink ba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15000" y="1523880"/>
            <a:ext cx="2666880" cy="1994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61640" y="117936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n F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63080" y="39225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867280" y="4267080"/>
            <a:ext cx="2438640" cy="18050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152280" y="1752480"/>
            <a:ext cx="2438640" cy="1752840"/>
          </a:xfrm>
          <a:custGeom>
            <a:avLst/>
            <a:gdLst>
              <a:gd name="textAreaLeft" fmla="*/ 113400 w 2438640"/>
              <a:gd name="textAreaRight" fmla="*/ 2325240 w 243864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0049" h="21600">
                <a:moveTo>
                  <a:pt x="0" y="0"/>
                </a:moveTo>
                <a:lnTo>
                  <a:pt x="30049" y="0"/>
                </a:lnTo>
                <a:lnTo>
                  <a:pt x="30049" y="21600"/>
                </a:lnTo>
                <a:lnTo>
                  <a:pt x="0" y="21600"/>
                </a:lnTo>
                <a:close/>
              </a:path>
              <a:path fill="lightenLess" w="30049" h="21600">
                <a:moveTo>
                  <a:pt x="0" y="0"/>
                </a:moveTo>
                <a:lnTo>
                  <a:pt x="30049" y="0"/>
                </a:lnTo>
                <a:lnTo>
                  <a:pt x="28649" y="1400"/>
                </a:lnTo>
                <a:lnTo>
                  <a:pt x="1400" y="1400"/>
                </a:lnTo>
                <a:close/>
              </a:path>
              <a:path fill="darken" w="30049" h="21600">
                <a:moveTo>
                  <a:pt x="30049" y="0"/>
                </a:moveTo>
                <a:lnTo>
                  <a:pt x="30049" y="21600"/>
                </a:lnTo>
                <a:lnTo>
                  <a:pt x="28649" y="20200"/>
                </a:lnTo>
                <a:lnTo>
                  <a:pt x="28649" y="1400"/>
                </a:lnTo>
                <a:close/>
              </a:path>
              <a:path fill="darkenLess" w="30049" h="21600">
                <a:moveTo>
                  <a:pt x="30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49" y="20200"/>
                </a:lnTo>
                <a:close/>
              </a:path>
              <a:path fill="lighten" w="30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838080" y="4114800"/>
            <a:ext cx="1119240" cy="1828800"/>
          </a:xfrm>
          <a:custGeom>
            <a:avLst/>
            <a:gdLst>
              <a:gd name="textAreaLeft" fmla="*/ 72360 w 1119240"/>
              <a:gd name="textAreaRight" fmla="*/ 1046880 w 1119240"/>
              <a:gd name="textAreaTop" fmla="*/ 72360 h 1828800"/>
              <a:gd name="textAreaBottom" fmla="*/ 1756440 h 1828800"/>
            </a:gdLst>
            <a:ahLst/>
            <a:rect l="textAreaLeft" t="textAreaTop" r="textAreaRight" b="textAreaBottom"/>
            <a:pathLst>
              <a:path w="21600" h="35289">
                <a:moveTo>
                  <a:pt x="0" y="0"/>
                </a:moveTo>
                <a:lnTo>
                  <a:pt x="21600" y="0"/>
                </a:lnTo>
                <a:lnTo>
                  <a:pt x="21600" y="35289"/>
                </a:lnTo>
                <a:lnTo>
                  <a:pt x="0" y="35289"/>
                </a:lnTo>
                <a:close/>
              </a:path>
              <a:path fill="lightenLess" w="21600" h="35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289">
                <a:moveTo>
                  <a:pt x="21600" y="0"/>
                </a:moveTo>
                <a:lnTo>
                  <a:pt x="21600" y="35289"/>
                </a:lnTo>
                <a:lnTo>
                  <a:pt x="20200" y="33889"/>
                </a:lnTo>
                <a:lnTo>
                  <a:pt x="20200" y="1400"/>
                </a:lnTo>
                <a:close/>
              </a:path>
              <a:path fill="darkenLess" w="21600" h="35289">
                <a:moveTo>
                  <a:pt x="21600" y="35289"/>
                </a:moveTo>
                <a:lnTo>
                  <a:pt x="0" y="35289"/>
                </a:lnTo>
                <a:lnTo>
                  <a:pt x="1400" y="33889"/>
                </a:lnTo>
                <a:lnTo>
                  <a:pt x="20200" y="33889"/>
                </a:lnTo>
                <a:close/>
              </a:path>
              <a:path fill="lighten" w="21600" h="35289">
                <a:moveTo>
                  <a:pt x="0" y="35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8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5638680" y="1523880"/>
            <a:ext cx="2819520" cy="1981440"/>
          </a:xfrm>
          <a:custGeom>
            <a:avLst/>
            <a:gdLst>
              <a:gd name="textAreaLeft" fmla="*/ 128160 w 2819520"/>
              <a:gd name="textAreaRight" fmla="*/ 2691360 w 281952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0734" h="21600">
                <a:moveTo>
                  <a:pt x="0" y="0"/>
                </a:moveTo>
                <a:lnTo>
                  <a:pt x="30734" y="0"/>
                </a:lnTo>
                <a:lnTo>
                  <a:pt x="30734" y="21600"/>
                </a:lnTo>
                <a:lnTo>
                  <a:pt x="0" y="21600"/>
                </a:lnTo>
                <a:close/>
              </a:path>
              <a:path fill="lightenLess" w="30734" h="21600">
                <a:moveTo>
                  <a:pt x="0" y="0"/>
                </a:moveTo>
                <a:lnTo>
                  <a:pt x="30734" y="0"/>
                </a:lnTo>
                <a:lnTo>
                  <a:pt x="29334" y="1400"/>
                </a:lnTo>
                <a:lnTo>
                  <a:pt x="1400" y="1400"/>
                </a:lnTo>
                <a:close/>
              </a:path>
              <a:path fill="darken" w="30734" h="21600">
                <a:moveTo>
                  <a:pt x="30734" y="0"/>
                </a:moveTo>
                <a:lnTo>
                  <a:pt x="30734" y="21600"/>
                </a:lnTo>
                <a:lnTo>
                  <a:pt x="29334" y="20200"/>
                </a:lnTo>
                <a:lnTo>
                  <a:pt x="29334" y="1400"/>
                </a:lnTo>
                <a:close/>
              </a:path>
              <a:path fill="darkenLess" w="30734" h="21600">
                <a:moveTo>
                  <a:pt x="30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4" y="20200"/>
                </a:lnTo>
                <a:close/>
              </a:path>
              <a:path fill="lighten" w="30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9" action="ppaction://hlinksldjump"/>
          </p:cNvPr>
          <p:cNvSpPr/>
          <p:nvPr/>
        </p:nvSpPr>
        <p:spPr>
          <a:xfrm>
            <a:off x="5867280" y="42670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5400" y="10666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lick Picture for more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0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620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1440" y="1563840"/>
            <a:ext cx="67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caught by throw net or rod and 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r to catch under dams and mov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urchased in prepared baits and c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324480"/>
            <a:ext cx="585720" cy="533520"/>
          </a:xfrm>
          <a:custGeom>
            <a:avLst/>
            <a:gdLst>
              <a:gd name="textAreaLeft" fmla="*/ 34560 w 585720"/>
              <a:gd name="textAreaRight" fmla="*/ 551160 w 585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12" h="21600">
                <a:moveTo>
                  <a:pt x="0" y="0"/>
                </a:moveTo>
                <a:lnTo>
                  <a:pt x="23712" y="0"/>
                </a:lnTo>
                <a:lnTo>
                  <a:pt x="23712" y="21600"/>
                </a:lnTo>
                <a:lnTo>
                  <a:pt x="0" y="21600"/>
                </a:lnTo>
                <a:close/>
              </a:path>
              <a:path fill="lightenLess" w="23712" h="21600">
                <a:moveTo>
                  <a:pt x="0" y="0"/>
                </a:moveTo>
                <a:lnTo>
                  <a:pt x="23712" y="0"/>
                </a:lnTo>
                <a:lnTo>
                  <a:pt x="22312" y="1400"/>
                </a:lnTo>
                <a:lnTo>
                  <a:pt x="1400" y="1400"/>
                </a:lnTo>
                <a:close/>
              </a:path>
              <a:path fill="darken" w="23712" h="21600">
                <a:moveTo>
                  <a:pt x="23712" y="0"/>
                </a:moveTo>
                <a:lnTo>
                  <a:pt x="23712" y="21600"/>
                </a:lnTo>
                <a:lnTo>
                  <a:pt x="22312" y="20200"/>
                </a:lnTo>
                <a:lnTo>
                  <a:pt x="22312" y="1400"/>
                </a:lnTo>
                <a:close/>
              </a:path>
              <a:path fill="darkenLess" w="23712" h="21600">
                <a:moveTo>
                  <a:pt x="23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" y="20200"/>
                </a:lnTo>
                <a:close/>
              </a:path>
              <a:path fill="lighten" w="23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12" h="21600">
                <a:moveTo>
                  <a:pt x="4849" y="10800"/>
                </a:moveTo>
                <a:lnTo>
                  <a:pt x="18862" y="3794"/>
                </a:lnTo>
                <a:lnTo>
                  <a:pt x="1886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351240" y="436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“stink ba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34000" y="1868400"/>
            <a:ext cx="602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called chum b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cents and flavor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nclude liver, cheese, shad, and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pond f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624852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4724" y="10800"/>
                </a:moveTo>
                <a:lnTo>
                  <a:pt x="18737" y="3794"/>
                </a:lnTo>
                <a:lnTo>
                  <a:pt x="187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098960" y="47304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14160" y="1639800"/>
            <a:ext cx="731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ent for jug and tro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ly caught with light gear such as jigs and w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undant in streams and p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effective if cut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6248520"/>
            <a:ext cx="738360" cy="609480"/>
          </a:xfrm>
          <a:custGeom>
            <a:avLst/>
            <a:gdLst>
              <a:gd name="textAreaLeft" fmla="*/ 39240 w 738360"/>
              <a:gd name="textAreaRight" fmla="*/ 699120 w 738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165" h="21600">
                <a:moveTo>
                  <a:pt x="0" y="0"/>
                </a:moveTo>
                <a:lnTo>
                  <a:pt x="26165" y="0"/>
                </a:lnTo>
                <a:lnTo>
                  <a:pt x="26165" y="21600"/>
                </a:lnTo>
                <a:lnTo>
                  <a:pt x="0" y="21600"/>
                </a:lnTo>
                <a:close/>
              </a:path>
              <a:path fill="lightenLess" w="26165" h="21600">
                <a:moveTo>
                  <a:pt x="0" y="0"/>
                </a:moveTo>
                <a:lnTo>
                  <a:pt x="26165" y="0"/>
                </a:lnTo>
                <a:lnTo>
                  <a:pt x="24765" y="1400"/>
                </a:lnTo>
                <a:lnTo>
                  <a:pt x="1400" y="1400"/>
                </a:lnTo>
                <a:close/>
              </a:path>
              <a:path fill="darken" w="26165" h="21600">
                <a:moveTo>
                  <a:pt x="26165" y="0"/>
                </a:moveTo>
                <a:lnTo>
                  <a:pt x="26165" y="21600"/>
                </a:lnTo>
                <a:lnTo>
                  <a:pt x="24765" y="20200"/>
                </a:lnTo>
                <a:lnTo>
                  <a:pt x="24765" y="1400"/>
                </a:lnTo>
                <a:close/>
              </a:path>
              <a:path fill="darkenLess" w="26165" h="21600">
                <a:moveTo>
                  <a:pt x="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5" y="20200"/>
                </a:lnTo>
                <a:close/>
              </a:path>
              <a:path fill="lighten" w="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5" h="21600">
                <a:moveTo>
                  <a:pt x="6076" y="10800"/>
                </a:moveTo>
                <a:lnTo>
                  <a:pt x="20089" y="3794"/>
                </a:lnTo>
                <a:lnTo>
                  <a:pt x="200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37:30Z</dcterms:created>
  <dc:creator>Oklahoma State University</dc:creator>
  <dc:description/>
  <dc:language>en-US</dc:language>
  <cp:lastModifiedBy>jquillin</cp:lastModifiedBy>
  <dcterms:modified xsi:type="dcterms:W3CDTF">2008-04-03T14:42:05Z</dcterms:modified>
  <cp:revision>21</cp:revision>
  <dc:subject/>
  <dc:title>Slide 1</dc:title>
</cp:coreProperties>
</file>